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146304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7B6961-053C-4BCC-A6CF-CE26C2486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Num" idx="7"/>
          </p:nvPr>
        </p:nvSpPr>
        <p:spPr>
          <a:xfrm>
            <a:off x="3886200" y="86868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5407B-86CA-45AC-8774-B89E567CF2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8FC18-6B82-4CD3-9D0B-9DAE8E2681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Num" idx="15"/>
          </p:nvPr>
        </p:nvSpPr>
        <p:spPr>
          <a:xfrm>
            <a:off x="3886200" y="86868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A8858B-E16F-48E3-944E-796301C4B1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EC824-E33F-4924-AF4D-1A0FC37AC8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Num" idx="16"/>
          </p:nvPr>
        </p:nvSpPr>
        <p:spPr>
          <a:xfrm>
            <a:off x="3886200" y="86868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56F17-63AE-4079-80EB-ED29E58A1E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D8C42-00BE-4D3E-96A6-4DE10D7E62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Num" idx="17"/>
          </p:nvPr>
        </p:nvSpPr>
        <p:spPr>
          <a:xfrm>
            <a:off x="3886200" y="86868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A4152-0EAD-4132-9CAD-E73659B2A5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7B727E-8E31-43AA-BB6B-CD5F690A25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Num" idx="18"/>
          </p:nvPr>
        </p:nvSpPr>
        <p:spPr>
          <a:xfrm>
            <a:off x="3886200" y="86868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C5595-CF25-48A6-BF25-319B1EC9C4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F2C9A-9599-4C75-A013-507330B5B8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Num" idx="19"/>
          </p:nvPr>
        </p:nvSpPr>
        <p:spPr>
          <a:xfrm>
            <a:off x="3886200" y="86868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A39FC-CF75-4976-91AE-9D3D791B6A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B97DE1-D110-4F8A-BFC2-2DFEC12256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Num" idx="20"/>
          </p:nvPr>
        </p:nvSpPr>
        <p:spPr>
          <a:xfrm>
            <a:off x="3886200" y="86868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57D60-21AB-4384-84FC-1639648073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572CA-1156-47C9-BA37-986FB19D06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Num" idx="21"/>
          </p:nvPr>
        </p:nvSpPr>
        <p:spPr>
          <a:xfrm>
            <a:off x="3886200" y="86868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11B41-DF67-4528-83B0-B56CEB765E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419254-BB38-47E0-9087-70BB812427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Num" idx="8"/>
          </p:nvPr>
        </p:nvSpPr>
        <p:spPr>
          <a:xfrm>
            <a:off x="3886200" y="86868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2BA50F-485E-4560-8B95-FD78BA2564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9286F-2FAE-4597-B137-D06662CA70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Num" idx="9"/>
          </p:nvPr>
        </p:nvSpPr>
        <p:spPr>
          <a:xfrm>
            <a:off x="3886200" y="86868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3E040B-2DD9-460E-A44C-34D03F5E55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909B8-EA7C-4F13-B42B-3BDC1846DB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Num" idx="10"/>
          </p:nvPr>
        </p:nvSpPr>
        <p:spPr>
          <a:xfrm>
            <a:off x="3886200" y="86868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A99832-032E-4809-8699-524AAC6E8A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22535-FDAD-4DBD-9CC5-F371610BB8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Num" idx="11"/>
          </p:nvPr>
        </p:nvSpPr>
        <p:spPr>
          <a:xfrm>
            <a:off x="3886200" y="86868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5C2B81-478A-419D-A33B-6F2E7B3D61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39AED-6FE0-4694-9FC6-D9885B57AD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Num" idx="12"/>
          </p:nvPr>
        </p:nvSpPr>
        <p:spPr>
          <a:xfrm>
            <a:off x="3886200" y="86868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40CFD-27B9-45E2-A78C-7B953D9D34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333BDA-ED7B-454D-B00E-03965EAB5F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Num" idx="13"/>
          </p:nvPr>
        </p:nvSpPr>
        <p:spPr>
          <a:xfrm>
            <a:off x="3886200" y="86868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D4486-85FC-47E7-9977-1549863B76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FB0AB-540D-4157-B560-0F920064D4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Num" idx="14"/>
          </p:nvPr>
        </p:nvSpPr>
        <p:spPr>
          <a:xfrm>
            <a:off x="3886200" y="86868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99DA78-DB73-453D-9E6F-0543486060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6327A-C45D-408F-9784-5880362F5B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B46D-4A24-4915-9EAF-04C8ACE6C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124203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96920" y="6332400"/>
            <a:ext cx="124203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0E959-5C2B-41BB-A130-89B34E654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6136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96920" y="633240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461360" y="633240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D6F5-16DE-4532-953D-05AAC4973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96680" y="264168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96080" y="264168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96920" y="633240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296680" y="633240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9496080" y="633240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2384-3774-4F6D-B49E-A913AAAEB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A845C-BABF-4248-BC00-AD846DC5E4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96920" y="2641680"/>
            <a:ext cx="124203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B8976-5478-4957-8CC4-2AFFB8C983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124203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84DF5-0F3F-4C36-ADCE-93F68D5DE6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09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7461360" y="2641680"/>
            <a:ext cx="60609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C6CFD-673B-4FE7-A767-638F79B994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E3CFB-3215-4FA9-9569-7407CB5927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145040" y="-193680"/>
            <a:ext cx="10469160" cy="87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55C89-6134-44A3-8D25-4C3C1DC028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461360" y="2641680"/>
            <a:ext cx="60609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96920" y="633240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00A76-0E7C-42C5-B57C-E791988727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96920" y="2641680"/>
            <a:ext cx="124203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1460F-9439-4AD7-9938-1E9E992F1E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09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46136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61360" y="633240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748E0-4927-4826-8CA2-5A4EEE6722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6136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96920" y="6332400"/>
            <a:ext cx="124203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F6C1F-62BD-4BDE-9498-E1BC390861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124203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096920" y="6332400"/>
            <a:ext cx="124203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CC97A-84B7-44B0-B56D-A7DF455226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46136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96920" y="633240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61360" y="633240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2DE39-0AE8-401E-AB2D-2C424B95B8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96680" y="264168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496080" y="264168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096920" y="633240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5296680" y="633240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9496080" y="633240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08BF5-2CE4-4422-8DC5-8EAEE5A9264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F9C9-4B9E-4C49-B305-50877A150D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96920" y="2641680"/>
            <a:ext cx="124203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1633-9A07-4436-BEA6-E7BDC2DD94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124203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F75D-CE50-45D1-AD7F-91FAD73CF0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09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461360" y="2641680"/>
            <a:ext cx="60609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F48F-2A75-4B62-A1BB-3D0816E5E9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C394-006E-4610-A33F-CD87979721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124203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6D69F-B797-4776-B6DD-71F8BE7774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145040" y="-193680"/>
            <a:ext cx="10469160" cy="87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CB4F-B920-457B-B9DC-67DB5DB6C30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461360" y="2641680"/>
            <a:ext cx="60609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96920" y="633240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B7E6-2AA7-4F9A-889D-4B3695476C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09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46136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61360" y="633240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F57-B841-4B5D-9FC3-F20132C4FB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6136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96920" y="6332400"/>
            <a:ext cx="124203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8B7C-6009-42DA-BE28-8D7FBA267F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124203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096920" y="6332400"/>
            <a:ext cx="124203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F069-A2C3-4018-9FA7-6DF964F895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46136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096920" y="633240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461360" y="633240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D6BD-1319-45C7-9AC8-08E45B6EAE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96680" y="264168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496080" y="264168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096920" y="633240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5296680" y="633240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9496080" y="6332400"/>
            <a:ext cx="399924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F43C-B10C-4A55-9F55-94BC89684D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09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461360" y="2641680"/>
            <a:ext cx="60609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248D-1419-47F7-9F78-C72503FE0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6F3AC-CA2B-46D6-9FBF-0C3644A1C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45040" y="-193680"/>
            <a:ext cx="10469160" cy="87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A474C-5D68-4F0B-AA57-7BF3B98FD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461360" y="2641680"/>
            <a:ext cx="60609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96920" y="633240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05B7-85D7-49D0-AED4-8851CC4AD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0960" cy="70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46136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61360" y="633240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C42CC-18BE-4294-8DBA-7267716A4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61360" y="2641680"/>
            <a:ext cx="60609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96920" y="6332400"/>
            <a:ext cx="1242036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32642-ED3A-43C8-BCB4-D1C8F24D7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4630040" cy="9143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4"/>
          <p:cNvSpPr/>
          <p:nvPr/>
        </p:nvSpPr>
        <p:spPr>
          <a:xfrm>
            <a:off x="1096920" y="8331120"/>
            <a:ext cx="30477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4997520" y="8331120"/>
            <a:ext cx="46335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10483920" y="8331120"/>
            <a:ext cx="3031920" cy="596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4B88C-7A56-4077-99F5-3E1393858F4F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731520" y="364680"/>
            <a:ext cx="1316700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731520" y="2139480"/>
            <a:ext cx="1316700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27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27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4630040" cy="9143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1096920" y="8331120"/>
            <a:ext cx="30477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997520" y="8331120"/>
            <a:ext cx="46335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AU" sz="5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to edit Master title style</a:t>
            </a:r>
            <a:endParaRPr b="0" lang="en-GB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96920" y="2641680"/>
            <a:ext cx="6133680" cy="7065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to edit Master text styles</a:t>
            </a: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 level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hird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marL="1600200" indent="0">
              <a:lnSpc>
                <a:spcPct val="100000"/>
              </a:lnSpc>
              <a:spcBef>
                <a:spcPts val="663"/>
              </a:spcBef>
              <a:buNone/>
              <a:tabLst>
                <a:tab algn="l" pos="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ourth level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100000"/>
              </a:lnSpc>
              <a:spcBef>
                <a:spcPts val="663"/>
              </a:spcBef>
              <a:buNone/>
              <a:tabLst>
                <a:tab algn="l" pos="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fth level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7383600" y="2641680"/>
            <a:ext cx="6133680" cy="7065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to edit Master text styles</a:t>
            </a: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 level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hird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marL="1600200" indent="0">
              <a:lnSpc>
                <a:spcPct val="100000"/>
              </a:lnSpc>
              <a:spcBef>
                <a:spcPts val="663"/>
              </a:spcBef>
              <a:buNone/>
              <a:tabLst>
                <a:tab algn="l" pos="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ourth level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100000"/>
              </a:lnSpc>
              <a:spcBef>
                <a:spcPts val="663"/>
              </a:spcBef>
              <a:buNone/>
              <a:tabLst>
                <a:tab algn="l" pos="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fth level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2"/>
          </p:nvPr>
        </p:nvSpPr>
        <p:spPr>
          <a:xfrm>
            <a:off x="10483920" y="8331120"/>
            <a:ext cx="3031920" cy="596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8B8A9-D5F7-4F55-8065-A42382B8BFD3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4630040" cy="9143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1096920" y="8331120"/>
            <a:ext cx="30477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997520" y="8331120"/>
            <a:ext cx="46335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AU" sz="5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to edit Master title style</a:t>
            </a:r>
            <a:endParaRPr b="0" lang="en-GB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096920" y="2641680"/>
            <a:ext cx="12420360" cy="7065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AU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to edit Master text styles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</a:tabLst>
            </a:pPr>
            <a:r>
              <a:rPr b="0" lang="en-AU" sz="3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 level</a:t>
            </a:r>
            <a:endParaRPr b="0" lang="en-GB" sz="37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hird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marL="1600200" indent="0">
              <a:lnSpc>
                <a:spcPct val="100000"/>
              </a:lnSpc>
              <a:spcBef>
                <a:spcPts val="663"/>
              </a:spcBef>
              <a:buNone/>
              <a:tabLst>
                <a:tab algn="l" pos="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ourth level</a:t>
            </a:r>
            <a:endParaRPr b="0" lang="en-GB" sz="27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100000"/>
              </a:lnSpc>
              <a:spcBef>
                <a:spcPts val="663"/>
              </a:spcBef>
              <a:buNone/>
              <a:tabLst>
                <a:tab algn="l" pos="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fth level</a:t>
            </a:r>
            <a:endParaRPr b="0" lang="en-GB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10483920" y="8331120"/>
            <a:ext cx="3031920" cy="596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56DB6-85C0-47CA-B2F7-6C4A99EFBD2C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6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6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6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6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6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6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6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6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6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6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096920" y="2840040"/>
            <a:ext cx="12436200" cy="19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  <a:tab algn="l" pos="11582280"/>
                <a:tab algn="l" pos="12306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irst they have to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ind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it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ting Government Data Discovered and 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2783520" y="6502320"/>
            <a:ext cx="45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ed from: John S. Erickso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therless World Conste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nsselaer Polytechnic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oy, New York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itter: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@olyerickson   #TWCR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368280" y="6843600"/>
            <a:ext cx="1947600" cy="19476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4776840" y="387360"/>
            <a:ext cx="934380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Panel: The Art &amp; Science of Data Visualization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9063000" y="4800600"/>
            <a:ext cx="447012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10483920" y="8331120"/>
            <a:ext cx="30477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48288-3FDB-46F9-B814-B33B0C8297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197920" y="2011320"/>
            <a:ext cx="6067080" cy="79563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31920" indent="-33192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ticipates W3C DCAT RDF vocabulary</a:t>
            </a: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os what a comprehensiv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ted catalo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ased on DCAT and aggregation API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ght look like</a:t>
            </a: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565440" y="-193680"/>
            <a:ext cx="11064600" cy="19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tional Open Government Dataset 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65160" y="2214720"/>
            <a:ext cx="8097480" cy="614628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10483920" y="8331120"/>
            <a:ext cx="30477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649DEA-A023-48BD-9EAA-38A2C883DB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893880" y="2125800"/>
            <a:ext cx="12925080" cy="19220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OGDS is a multi-year effort based on downloading, scraping or accessing APIs, converting metadata to a proto-DCAT model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publishing via endpoint and download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3565440" y="-193680"/>
            <a:ext cx="11064600" cy="19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tional Open Government Dataset 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2468520" y="4479840"/>
            <a:ext cx="1006200" cy="456840"/>
          </a:xfrm>
          <a:prstGeom prst="rect">
            <a:avLst/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2308320" y="5303880"/>
            <a:ext cx="1463400" cy="456840"/>
          </a:xfrm>
          <a:prstGeom prst="rect">
            <a:avLst/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wn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2286000" y="6218280"/>
            <a:ext cx="1234800" cy="1006200"/>
          </a:xfrm>
          <a:prstGeom prst="rect">
            <a:avLst/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2401920" y="6354720"/>
            <a:ext cx="1234800" cy="1006200"/>
          </a:xfrm>
          <a:prstGeom prst="rect">
            <a:avLst/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2514600" y="6492960"/>
            <a:ext cx="1234800" cy="1006200"/>
          </a:xfrm>
          <a:prstGeom prst="rect">
            <a:avLst/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4132440" y="4435560"/>
            <a:ext cx="6536880" cy="3153960"/>
          </a:xfrm>
          <a:prstGeom prst="rect">
            <a:avLst/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  <a:effectLst>
            <a:outerShdw algn="ctr" blurRad="6336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OGDS 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5888160" y="5578560"/>
            <a:ext cx="1234800" cy="1006200"/>
          </a:xfrm>
          <a:prstGeom prst="rect">
            <a:avLst/>
          </a:prstGeom>
          <a:solidFill>
            <a:srgbClr val="00dc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OD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4435560" y="6218280"/>
            <a:ext cx="1234800" cy="1006200"/>
          </a:xfrm>
          <a:prstGeom prst="rect">
            <a:avLst/>
          </a:prstGeom>
          <a:solidFill>
            <a:srgbClr val="00dc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-si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r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4435560" y="4937040"/>
            <a:ext cx="1234800" cy="1006200"/>
          </a:xfrm>
          <a:prstGeom prst="rect">
            <a:avLst/>
          </a:prstGeom>
          <a:solidFill>
            <a:srgbClr val="00dc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 ho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3"/>
          <p:cNvSpPr/>
          <p:nvPr/>
        </p:nvSpPr>
        <p:spPr>
          <a:xfrm>
            <a:off x="7423200" y="5668920"/>
            <a:ext cx="1677600" cy="767880"/>
          </a:xfrm>
          <a:prstGeom prst="rect">
            <a:avLst/>
          </a:prstGeom>
          <a:solidFill>
            <a:srgbClr val="00dc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v2rdf4l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o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4" descr=""/>
          <p:cNvPicPr/>
          <p:nvPr/>
        </p:nvPicPr>
        <p:blipFill>
          <a:blip r:embed="rId1"/>
          <a:stretch/>
        </p:blipFill>
        <p:spPr>
          <a:xfrm>
            <a:off x="11099880" y="4603680"/>
            <a:ext cx="3347640" cy="280152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sp>
        <p:nvSpPr>
          <p:cNvPr id="262" name="Text Box 15"/>
          <p:cNvSpPr/>
          <p:nvPr/>
        </p:nvSpPr>
        <p:spPr>
          <a:xfrm>
            <a:off x="10483920" y="8331120"/>
            <a:ext cx="30477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1BBA9-FC73-4F16-AA98-3430252A27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6"/>
          <p:cNvSpPr/>
          <p:nvPr/>
        </p:nvSpPr>
        <p:spPr>
          <a:xfrm>
            <a:off x="-274680" y="4389480"/>
            <a:ext cx="2377800" cy="3292200"/>
          </a:xfrm>
          <a:custGeom>
            <a:avLst/>
            <a:gdLst>
              <a:gd name="textAreaLeft" fmla="*/ 330120 w 2377800"/>
              <a:gd name="textAreaRight" fmla="*/ 1883520 w 2377800"/>
              <a:gd name="textAreaTop" fmla="*/ 505800 h 3292200"/>
              <a:gd name="textAreaBottom" fmla="*/ 2641320 h 3292200"/>
            </a:gdLst>
            <a:ahLst/>
            <a:rect l="textAreaLeft" t="textAreaTop" r="textAreaRight" b="textAreaBottom"/>
            <a:pathLst>
              <a:path w="21600" h="21600">
                <a:moveTo>
                  <a:pt x="1930" y="7160"/>
                </a:moveTo>
                <a:cubicBezTo>
                  <a:pt x="1530" y="4490"/>
                  <a:pt x="3400" y="1970"/>
                  <a:pt x="5270" y="1970"/>
                </a:cubicBezTo>
                <a:cubicBezTo>
                  <a:pt x="5860" y="1950"/>
                  <a:pt x="6470" y="2210"/>
                  <a:pt x="6970" y="2600"/>
                </a:cubicBezTo>
                <a:cubicBezTo>
                  <a:pt x="7450" y="1390"/>
                  <a:pt x="8340" y="650"/>
                  <a:pt x="9340" y="650"/>
                </a:cubicBezTo>
                <a:cubicBezTo>
                  <a:pt x="10004" y="690"/>
                  <a:pt x="10710" y="1050"/>
                  <a:pt x="11210" y="1700"/>
                </a:cubicBezTo>
                <a:cubicBezTo>
                  <a:pt x="11570" y="630"/>
                  <a:pt x="12330" y="0"/>
                  <a:pt x="13150" y="0"/>
                </a:cubicBezTo>
                <a:cubicBezTo>
                  <a:pt x="13840" y="0"/>
                  <a:pt x="14470" y="460"/>
                  <a:pt x="14870" y="1160"/>
                </a:cubicBezTo>
                <a:cubicBezTo>
                  <a:pt x="15330" y="440"/>
                  <a:pt x="16020" y="0"/>
                  <a:pt x="16740" y="0"/>
                </a:cubicBezTo>
                <a:cubicBezTo>
                  <a:pt x="17910" y="0"/>
                  <a:pt x="18900" y="1130"/>
                  <a:pt x="19110" y="2710"/>
                </a:cubicBezTo>
                <a:cubicBezTo>
                  <a:pt x="20240" y="3150"/>
                  <a:pt x="21060" y="4580"/>
                  <a:pt x="21060" y="6220"/>
                </a:cubicBezTo>
                <a:cubicBezTo>
                  <a:pt x="21060" y="6720"/>
                  <a:pt x="21000" y="7200"/>
                  <a:pt x="20830" y="7660"/>
                </a:cubicBezTo>
                <a:cubicBezTo>
                  <a:pt x="21310" y="8460"/>
                  <a:pt x="21600" y="9450"/>
                  <a:pt x="21600" y="10460"/>
                </a:cubicBezTo>
                <a:cubicBezTo>
                  <a:pt x="21600" y="12750"/>
                  <a:pt x="20310" y="14680"/>
                  <a:pt x="18650" y="15010"/>
                </a:cubicBezTo>
                <a:cubicBezTo>
                  <a:pt x="18650" y="17200"/>
                  <a:pt x="17370" y="18920"/>
                  <a:pt x="15770" y="18920"/>
                </a:cubicBezTo>
                <a:cubicBezTo>
                  <a:pt x="15220" y="18920"/>
                  <a:pt x="14700" y="18710"/>
                  <a:pt x="14240" y="18310"/>
                </a:cubicBezTo>
                <a:cubicBezTo>
                  <a:pt x="13820" y="20240"/>
                  <a:pt x="12490" y="21600"/>
                  <a:pt x="11000" y="21600"/>
                </a:cubicBezTo>
                <a:cubicBezTo>
                  <a:pt x="9890" y="21600"/>
                  <a:pt x="8840" y="20790"/>
                  <a:pt x="8210" y="19510"/>
                </a:cubicBezTo>
                <a:cubicBezTo>
                  <a:pt x="7620" y="20000"/>
                  <a:pt x="7930" y="20290"/>
                  <a:pt x="6240" y="20290"/>
                </a:cubicBezTo>
                <a:cubicBezTo>
                  <a:pt x="4850" y="20290"/>
                  <a:pt x="3570" y="19280"/>
                  <a:pt x="2900" y="17640"/>
                </a:cubicBezTo>
                <a:cubicBezTo>
                  <a:pt x="1300" y="17600"/>
                  <a:pt x="480" y="16300"/>
                  <a:pt x="480" y="14660"/>
                </a:cubicBezTo>
                <a:cubicBezTo>
                  <a:pt x="480" y="13900"/>
                  <a:pt x="690" y="13210"/>
                  <a:pt x="1070" y="12640"/>
                </a:cubicBezTo>
                <a:cubicBezTo>
                  <a:pt x="380" y="12160"/>
                  <a:pt x="0" y="11210"/>
                  <a:pt x="0" y="10120"/>
                </a:cubicBezTo>
                <a:cubicBezTo>
                  <a:pt x="0" y="8590"/>
                  <a:pt x="840" y="7330"/>
                  <a:pt x="1930" y="7160"/>
                </a:cubicBezTo>
                <a:close/>
              </a:path>
              <a:path fill="none" w="21600" h="21600">
                <a:moveTo>
                  <a:pt x="1930" y="7160"/>
                </a:moveTo>
                <a:cubicBezTo>
                  <a:pt x="1950" y="7410"/>
                  <a:pt x="2040" y="7690"/>
                  <a:pt x="2090" y="7920"/>
                </a:cubicBezTo>
              </a:path>
              <a:path fill="none" w="21600" h="21600">
                <a:moveTo>
                  <a:pt x="6970" y="2600"/>
                </a:moveTo>
                <a:cubicBezTo>
                  <a:pt x="7200" y="2790"/>
                  <a:pt x="7480" y="3050"/>
                  <a:pt x="7670" y="3310"/>
                </a:cubicBezTo>
              </a:path>
              <a:path fill="none" w="21600" h="21600">
                <a:moveTo>
                  <a:pt x="11210" y="1700"/>
                </a:moveTo>
                <a:cubicBezTo>
                  <a:pt x="11130" y="1910"/>
                  <a:pt x="11080" y="2160"/>
                  <a:pt x="11030" y="2400"/>
                </a:cubicBezTo>
              </a:path>
              <a:path fill="none" w="21600" h="21600">
                <a:moveTo>
                  <a:pt x="14870" y="1160"/>
                </a:moveTo>
                <a:cubicBezTo>
                  <a:pt x="14720" y="1400"/>
                  <a:pt x="14640" y="1720"/>
                  <a:pt x="14540" y="2010"/>
                </a:cubicBezTo>
              </a:path>
              <a:path fill="none" w="21600" h="21600">
                <a:moveTo>
                  <a:pt x="19110" y="2710"/>
                </a:moveTo>
                <a:cubicBezTo>
                  <a:pt x="19130" y="2890"/>
                  <a:pt x="19230" y="3290"/>
                  <a:pt x="19190" y="3380"/>
                </a:cubicBezTo>
              </a:path>
              <a:path fill="none" w="21600" h="21600">
                <a:moveTo>
                  <a:pt x="20830" y="7660"/>
                </a:moveTo>
                <a:cubicBezTo>
                  <a:pt x="20660" y="8170"/>
                  <a:pt x="20430" y="8620"/>
                  <a:pt x="20110" y="8990"/>
                </a:cubicBezTo>
              </a:path>
              <a:path fill="none" w="21600" h="21600">
                <a:moveTo>
                  <a:pt x="18660" y="15010"/>
                </a:moveTo>
                <a:cubicBezTo>
                  <a:pt x="18740" y="14200"/>
                  <a:pt x="18280" y="12200"/>
                  <a:pt x="17000" y="11450"/>
                </a:cubicBezTo>
              </a:path>
              <a:path fill="none" w="21600" h="21600">
                <a:moveTo>
                  <a:pt x="14240" y="18310"/>
                </a:moveTo>
                <a:cubicBezTo>
                  <a:pt x="14320" y="17980"/>
                  <a:pt x="14350" y="17680"/>
                  <a:pt x="14370" y="17360"/>
                </a:cubicBezTo>
              </a:path>
              <a:path fill="none" w="21600" h="21600">
                <a:moveTo>
                  <a:pt x="8220" y="19510"/>
                </a:moveTo>
                <a:cubicBezTo>
                  <a:pt x="8060" y="19250"/>
                  <a:pt x="7960" y="18950"/>
                  <a:pt x="7860" y="18640"/>
                </a:cubicBezTo>
              </a:path>
              <a:path fill="none" w="21600" h="21600">
                <a:moveTo>
                  <a:pt x="2900" y="17640"/>
                </a:moveTo>
                <a:cubicBezTo>
                  <a:pt x="3090" y="17600"/>
                  <a:pt x="3280" y="17540"/>
                  <a:pt x="3460" y="17450"/>
                </a:cubicBezTo>
              </a:path>
              <a:path fill="none" w="21600" h="21600">
                <a:moveTo>
                  <a:pt x="1070" y="12640"/>
                </a:moveTo>
                <a:cubicBezTo>
                  <a:pt x="1400" y="12900"/>
                  <a:pt x="1780" y="13130"/>
                  <a:pt x="2330" y="13040"/>
                </a:cubicBezTo>
              </a:path>
            </a:pathLst>
          </a:cu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64" name="AutoShape 17"/>
          <p:cNvSpPr/>
          <p:nvPr/>
        </p:nvSpPr>
        <p:spPr>
          <a:xfrm>
            <a:off x="639720" y="4754520"/>
            <a:ext cx="456840" cy="549000"/>
          </a:xfrm>
          <a:prstGeom prst="can">
            <a:avLst>
              <a:gd name="adj" fmla="val 30035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65" name="AutoShape 18"/>
          <p:cNvSpPr/>
          <p:nvPr/>
        </p:nvSpPr>
        <p:spPr>
          <a:xfrm>
            <a:off x="641520" y="6492960"/>
            <a:ext cx="456840" cy="639360"/>
          </a:xfrm>
          <a:prstGeom prst="can">
            <a:avLst>
              <a:gd name="adj" fmla="val 34983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66" name="AutoShape 19"/>
          <p:cNvSpPr/>
          <p:nvPr/>
        </p:nvSpPr>
        <p:spPr>
          <a:xfrm>
            <a:off x="90360" y="530388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67" name="AutoShape 20"/>
          <p:cNvSpPr/>
          <p:nvPr/>
        </p:nvSpPr>
        <p:spPr>
          <a:xfrm>
            <a:off x="1371600" y="6218280"/>
            <a:ext cx="364680" cy="639360"/>
          </a:xfrm>
          <a:prstGeom prst="can">
            <a:avLst>
              <a:gd name="adj" fmla="val 43804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68" name="AutoShape 21"/>
          <p:cNvSpPr/>
          <p:nvPr/>
        </p:nvSpPr>
        <p:spPr>
          <a:xfrm>
            <a:off x="824040" y="548640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pic>
        <p:nvPicPr>
          <p:cNvPr id="269" name="Picture 22" descr=""/>
          <p:cNvPicPr/>
          <p:nvPr/>
        </p:nvPicPr>
        <p:blipFill>
          <a:blip r:embed="rId2"/>
          <a:stretch/>
        </p:blipFill>
        <p:spPr>
          <a:xfrm>
            <a:off x="420840" y="5184720"/>
            <a:ext cx="9000" cy="9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"/>
          <p:cNvPicPr/>
          <p:nvPr/>
        </p:nvPicPr>
        <p:blipFill>
          <a:blip r:embed="rId3"/>
          <a:stretch/>
        </p:blipFill>
        <p:spPr>
          <a:xfrm>
            <a:off x="420840" y="5184720"/>
            <a:ext cx="9000" cy="900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24"/>
          <p:cNvSpPr/>
          <p:nvPr/>
        </p:nvSpPr>
        <p:spPr>
          <a:xfrm>
            <a:off x="1463760" y="5029200"/>
            <a:ext cx="364680" cy="639360"/>
          </a:xfrm>
          <a:prstGeom prst="can">
            <a:avLst>
              <a:gd name="adj" fmla="val 43804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72" name="AutoShape 25"/>
          <p:cNvSpPr/>
          <p:nvPr/>
        </p:nvSpPr>
        <p:spPr>
          <a:xfrm>
            <a:off x="92160" y="6308640"/>
            <a:ext cx="456840" cy="639360"/>
          </a:xfrm>
          <a:prstGeom prst="can">
            <a:avLst>
              <a:gd name="adj" fmla="val 34983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cxnSp>
        <p:nvCxnSpPr>
          <p:cNvPr id="273" name="AutoShape 26"/>
          <p:cNvCxnSpPr>
            <a:stCxn id="264" idx="1"/>
            <a:endCxn id="251" idx="1"/>
          </p:cNvCxnSpPr>
          <p:nvPr/>
        </p:nvCxnSpPr>
        <p:spPr>
          <a:xfrm flipV="1">
            <a:off x="1096920" y="4708440"/>
            <a:ext cx="1371960" cy="3211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74" name="AutoShape 27"/>
          <p:cNvCxnSpPr>
            <a:stCxn id="268" idx="1"/>
            <a:endCxn id="252" idx="1"/>
          </p:cNvCxnSpPr>
          <p:nvPr/>
        </p:nvCxnSpPr>
        <p:spPr>
          <a:xfrm flipV="1">
            <a:off x="1373040" y="5532120"/>
            <a:ext cx="935280" cy="3657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75" name="AutoShape 28"/>
          <p:cNvCxnSpPr>
            <a:stCxn id="265" idx="1"/>
            <a:endCxn id="253" idx="1"/>
          </p:cNvCxnSpPr>
          <p:nvPr/>
        </p:nvCxnSpPr>
        <p:spPr>
          <a:xfrm flipV="1">
            <a:off x="1098360" y="6721200"/>
            <a:ext cx="1188000" cy="91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76" name="AutoShape 29"/>
          <p:cNvCxnSpPr>
            <a:stCxn id="267" idx="1"/>
          </p:cNvCxnSpPr>
          <p:nvPr/>
        </p:nvCxnSpPr>
        <p:spPr>
          <a:xfrm>
            <a:off x="1736640" y="6538680"/>
            <a:ext cx="551160" cy="1893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77" name="AutoShape 30"/>
          <p:cNvCxnSpPr>
            <a:stCxn id="271" idx="1"/>
          </p:cNvCxnSpPr>
          <p:nvPr/>
        </p:nvCxnSpPr>
        <p:spPr>
          <a:xfrm flipV="1">
            <a:off x="1828800" y="4709880"/>
            <a:ext cx="640080" cy="640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78" name="Text Box 31"/>
          <p:cNvSpPr/>
          <p:nvPr/>
        </p:nvSpPr>
        <p:spPr>
          <a:xfrm>
            <a:off x="255600" y="3860640"/>
            <a:ext cx="1380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ta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2" descr=""/>
          <p:cNvPicPr/>
          <p:nvPr/>
        </p:nvPicPr>
        <p:blipFill>
          <a:blip r:embed="rId4"/>
          <a:stretch/>
        </p:blipFill>
        <p:spPr>
          <a:xfrm>
            <a:off x="9437760" y="5680080"/>
            <a:ext cx="894960" cy="97128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33"/>
          <p:cNvSpPr/>
          <p:nvPr/>
        </p:nvSpPr>
        <p:spPr>
          <a:xfrm>
            <a:off x="4206960" y="8291520"/>
            <a:ext cx="566856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: http://logd.tw.rpi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85000" cy="1912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ma.org: Semantic Markup for Discovery</a:t>
            </a:r>
            <a:endParaRPr b="0" lang="en-GB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10483920" y="8331120"/>
            <a:ext cx="30477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C5065-D9D6-4294-B6E0-AC13983119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469280" y="2604960"/>
            <a:ext cx="6886080" cy="54860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C RPI has published dataset listings based on IOGDS using emerging microdata standards, esp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ma.or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odel endorsed by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ng, Google, Yahoo!, Yandex...</a:t>
            </a: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274680" y="2062080"/>
            <a:ext cx="6990840" cy="607644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85000" cy="1912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ma.org 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sets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xtension</a:t>
            </a:r>
            <a:endParaRPr b="0" lang="en-GB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10483920" y="8331120"/>
            <a:ext cx="30477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CD5AD-FD32-4977-9009-3E74123A9D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5040" y="1860480"/>
            <a:ext cx="6067080" cy="6643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C RPI's schema.or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s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ill enable government dataset catalogs to more easily be parsed and indexed by the major search engines...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..which will help users find relevant datasets!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C's dataset extension entered public discussion June 2012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6413400" y="1846440"/>
            <a:ext cx="5276520" cy="482868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pic>
        <p:nvPicPr>
          <p:cNvPr id="289" name="Picture 5" descr=""/>
          <p:cNvPicPr/>
          <p:nvPr/>
        </p:nvPicPr>
        <p:blipFill>
          <a:blip r:embed="rId2"/>
          <a:stretch/>
        </p:blipFill>
        <p:spPr>
          <a:xfrm>
            <a:off x="9051840" y="4022640"/>
            <a:ext cx="5266800" cy="509544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85000" cy="1912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ma.org 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sets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xtension</a:t>
            </a:r>
            <a:endParaRPr b="0" lang="en-GB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10483920" y="8331120"/>
            <a:ext cx="30477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7B78C-5DEE-475D-BF4B-B9936D1A16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274680" y="2062080"/>
            <a:ext cx="6990840" cy="607644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pic>
        <p:nvPicPr>
          <p:cNvPr id="293" name="Picture 4" descr=""/>
          <p:cNvPicPr/>
          <p:nvPr/>
        </p:nvPicPr>
        <p:blipFill>
          <a:blip r:embed="rId2"/>
          <a:stretch/>
        </p:blipFill>
        <p:spPr>
          <a:xfrm>
            <a:off x="2779560" y="3200400"/>
            <a:ext cx="4809600" cy="558144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sp>
        <p:nvSpPr>
          <p:cNvPr id="294" name="Rectangle 5"/>
          <p:cNvSpPr/>
          <p:nvPr/>
        </p:nvSpPr>
        <p:spPr>
          <a:xfrm>
            <a:off x="365040" y="2062080"/>
            <a:ext cx="1371240" cy="223560"/>
          </a:xfrm>
          <a:prstGeom prst="rect">
            <a:avLst/>
          </a:prstGeom>
          <a:solidFill>
            <a:srgbClr val="008000">
              <a:alpha val="25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3382920" y="5537160"/>
            <a:ext cx="1371240" cy="223560"/>
          </a:xfrm>
          <a:prstGeom prst="rect">
            <a:avLst/>
          </a:prstGeom>
          <a:solidFill>
            <a:srgbClr val="008000">
              <a:alpha val="25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cxnSp>
        <p:nvCxnSpPr>
          <p:cNvPr id="296" name="AutoShape 7"/>
          <p:cNvCxnSpPr>
            <a:stCxn id="294" idx="2"/>
            <a:endCxn id="295" idx="1"/>
          </p:cNvCxnSpPr>
          <p:nvPr/>
        </p:nvCxnSpPr>
        <p:spPr>
          <a:xfrm>
            <a:off x="1050840" y="2286000"/>
            <a:ext cx="2332440" cy="336420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97" name="Text Box 8"/>
          <p:cNvSpPr/>
          <p:nvPr/>
        </p:nvSpPr>
        <p:spPr>
          <a:xfrm>
            <a:off x="8047080" y="2103480"/>
            <a:ext cx="6067080" cy="66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>
              <a:lnSpc>
                <a:spcPct val="100000"/>
              </a:lnSpc>
              <a:spcBef>
                <a:spcPts val="1063"/>
              </a:spcBef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chema.org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se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xtension enable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evant datase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o be more easily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over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y a range of stakeholders including researchers, data journalists, bloggers and develop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9" descr=""/>
          <p:cNvPicPr/>
          <p:nvPr/>
        </p:nvPicPr>
        <p:blipFill>
          <a:blip r:embed="rId3"/>
          <a:stretch/>
        </p:blipFill>
        <p:spPr>
          <a:xfrm>
            <a:off x="2835360" y="3017880"/>
            <a:ext cx="21524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10483920" y="8331120"/>
            <a:ext cx="30477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F58BE7-8AC4-4AFE-9C74-89D64C6039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274680" y="2062080"/>
            <a:ext cx="6990840" cy="607644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2444760" y="3909960"/>
            <a:ext cx="6791040" cy="440964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pic>
        <p:nvPicPr>
          <p:cNvPr id="302" name="Picture 4" descr=""/>
          <p:cNvPicPr/>
          <p:nvPr/>
        </p:nvPicPr>
        <p:blipFill>
          <a:blip r:embed="rId3"/>
          <a:stretch/>
        </p:blipFill>
        <p:spPr>
          <a:xfrm>
            <a:off x="10634760" y="7772400"/>
            <a:ext cx="3630240" cy="96156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5"/>
          <p:cNvSpPr/>
          <p:nvPr/>
        </p:nvSpPr>
        <p:spPr>
          <a:xfrm>
            <a:off x="4145040" y="-193680"/>
            <a:ext cx="10485000" cy="19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ma.org 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sets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xt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9875880" y="2286000"/>
            <a:ext cx="4296960" cy="44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..we've reviewed the current datasets schema proposal in draft, and we are comfortable with the current state of thing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..At this point, if the group would solidify on the dataset proposal, th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.gov would support and us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-Chris Musia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1" descr=""/>
          <p:cNvPicPr/>
          <p:nvPr/>
        </p:nvPicPr>
        <p:blipFill>
          <a:blip r:embed="rId1"/>
          <a:stretch/>
        </p:blipFill>
        <p:spPr>
          <a:xfrm>
            <a:off x="6218280" y="2641680"/>
            <a:ext cx="8334000" cy="497160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85000" cy="1912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KAN Data Catalog Scheme &amp; Protocol</a:t>
            </a:r>
            <a:endParaRPr b="0" lang="en-GB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0483920" y="8331120"/>
            <a:ext cx="30477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4701CB-1C18-47B5-AD4B-92642DF704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2641680"/>
            <a:ext cx="6067080" cy="6259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31920" indent="-33192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I-based catalog federation is also possible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kan announced DCAT-based query/federation API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es OAI-PMH-like harvesting and more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35720" rIns="135720" tIns="68040" bIns="6804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ataset extension to schema.org</a:t>
            </a:r>
            <a:endParaRPr b="0" lang="en-GB" sz="5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Content Placeholder 3" descr="datasetschema.tiff"/>
          <p:cNvPicPr/>
          <p:nvPr/>
        </p:nvPicPr>
        <p:blipFill>
          <a:blip r:embed="rId1"/>
          <a:srcRect l="-45960" t="0" r="-45960" b="0"/>
          <a:stretch/>
        </p:blipFill>
        <p:spPr>
          <a:xfrm>
            <a:off x="-4781520" y="1719360"/>
            <a:ext cx="19873440" cy="11304360"/>
          </a:xfrm>
          <a:prstGeom prst="rect">
            <a:avLst/>
          </a:prstGeom>
          <a:ln w="0">
            <a:noFill/>
          </a:ln>
        </p:spPr>
      </p:pic>
      <p:pic>
        <p:nvPicPr>
          <p:cNvPr id="311" name="Content Placeholder 3" descr="datasetschema.tiff"/>
          <p:cNvPicPr/>
          <p:nvPr/>
        </p:nvPicPr>
        <p:blipFill>
          <a:blip r:embed="rId2"/>
          <a:srcRect l="-45960" t="0" r="-45960" b="0"/>
          <a:stretch/>
        </p:blipFill>
        <p:spPr>
          <a:xfrm>
            <a:off x="-461880" y="-2163600"/>
            <a:ext cx="19873440" cy="113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o/ links</a:t>
            </a:r>
            <a:endParaRPr b="0" lang="en-GB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22480" y="1979640"/>
            <a:ext cx="12420360" cy="7065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w3.org/wiki/WebSchemas/Datasets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w3.org/wiki/WebSchemas/SchemaDotOrgProposals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d introduction (longer/ with more context):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slideshare.net/joshsh/semantic-markup-using-schemaorg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of current schema.org results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12420360" cy="7065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schema-creator.org/event.php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schema-creator.org/product.php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50760" y="2170080"/>
            <a:ext cx="10693080" cy="7407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85000" cy="1912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n Government Data Around the World</a:t>
            </a:r>
            <a:endParaRPr b="0" lang="en-GB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0483920" y="8331120"/>
            <a:ext cx="30477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86E26-0DBC-4DEE-9B70-5135684A3D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2160" y="2011320"/>
            <a:ext cx="6400440" cy="45716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rting with efforts 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US and UK, governments around 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world have recognized the need to publish their critical data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9407520" y="2004840"/>
            <a:ext cx="4981320" cy="476208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sp>
        <p:nvSpPr>
          <p:cNvPr id="143" name="Text Box 6"/>
          <p:cNvSpPr/>
          <p:nvPr/>
        </p:nvSpPr>
        <p:spPr>
          <a:xfrm>
            <a:off x="8686800" y="2004840"/>
            <a:ext cx="4389120" cy="33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cent of total collection (from 1M+ datas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do…</a:t>
            </a:r>
            <a:endParaRPr b="0" lang="en-GB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1619280"/>
            <a:ext cx="5514480" cy="5905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Google, Bing, Yahoo, … to crawl these pages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might look like this: http://www.google.com/publicdata/directory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3" descr="google_data20130708.tiff"/>
          <p:cNvPicPr/>
          <p:nvPr/>
        </p:nvPicPr>
        <p:blipFill>
          <a:blip r:embed="rId1"/>
          <a:stretch/>
        </p:blipFill>
        <p:spPr>
          <a:xfrm>
            <a:off x="5227560" y="1851120"/>
            <a:ext cx="9791280" cy="7184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Jim Hendler:</a:t>
            </a:r>
            <a:endParaRPr b="0" lang="en-GB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12420360" cy="7065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gle is now building custom search engines that will pull down </a:t>
            </a:r>
            <a:r>
              <a:rPr b="0" lang="en-US" sz="43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chema.org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n Brickley is working on one from the Dataset schema, not yet public 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's also an open govt data search – not much in it, but looks nice – it's at </a:t>
            </a:r>
            <a:r>
              <a:rPr b="0" lang="en-US" sz="43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http://www.google.com/publicdata/directory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trieve all the logd datasets:</a:t>
            </a:r>
            <a:endParaRPr b="0" lang="en-GB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96920" y="1692360"/>
            <a:ext cx="12420360" cy="7065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FIX dgtwc: &lt;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http://data-gov.tw.rpi.edu/2009/data-gov-twc.rdf#&gt;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FIX conv: &lt;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http://purl.org/twc/vocab/conversion/&gt;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FIX void: &lt;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http://rdfs.org/ns/void#&gt;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FIX dcterms: &lt;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http://purl.org/dc/terms/&gt;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 DISTINCT ?dataset ?catalog ?catalog_id ?title ?desc ?country ?homepage ?agency_id ?contributor_id WHERE {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dataset a conv:CatalogedDataset .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dataset void:inDataset ?catalog .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catalog dcterms:identifier ?catalog_id .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dataset &lt;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http://purl.org/dc/terms/title&gt; ?title .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dataset dcterms:description ?desc .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AL {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dataset dgtwc:catalog_country ?country .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}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AL {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dataset &lt;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http://xmlns.com/foaf/0.1/homepage&gt; ?homepage .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}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AL {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dataset dgtwc:agency ?agency .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agency dcterms:identifier ?agency_id .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}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AL {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dataset &lt;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http://purl.org/dc/terms/contributor&gt; ?contributor .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contributor dcterms:identifier ?contributor_id .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}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#?dataset dgtwc:catalog_country &lt;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http://dbpedia.org/resource/United_States&gt; .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rtesy: Josh Shinavier (RPI/TWC)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arge number of datasets:</a:t>
            </a:r>
            <a:endParaRPr b="0" lang="en-GB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12420360" cy="7065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logd.tw.rpi.edu/schemaorg_dataset_extension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google.com/webmasters/tools/richsnippets?url=http://logd.tw.rpi.edu/schemaorg_dataset_extension&amp;view=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logd.tw.rpi.edu/page/international_dataset_catalog_search</a:t>
            </a:r>
            <a:endParaRPr b="0" lang="en-GB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3" descr="iogds20130709.tiff"/>
          <p:cNvPicPr/>
          <p:nvPr/>
        </p:nvPicPr>
        <p:blipFill>
          <a:blip r:embed="rId1"/>
          <a:stretch/>
        </p:blipFill>
        <p:spPr>
          <a:xfrm>
            <a:off x="3427560" y="1770120"/>
            <a:ext cx="11232720" cy="7373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test from Josh:</a:t>
            </a:r>
            <a:endParaRPr b="0" lang="en-GB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96920" y="2124000"/>
            <a:ext cx="12420360" cy="7065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sets-as-Linked-Data demo.  The RDFa in the pages is not only correct w.r.t. schema.org but is also presented in such a way that an RDFa-aware Linked Data crawler can hop from datasets to catalogs, back again, into DBpedia, etc. while gathering the RDFa as linked RDF.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ce we now have Datasets-ish RDFa markup in the main IOGDS dataset pages (i.e. the pages which the URIs of the datasets redirect to), we're pretty close to a completely integrated demo.  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remains: (1) the current markup has some problems.  We need to fix those; (2) we need markup for catalogs as well as datasets…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ed (1) and (2):</a:t>
            </a:r>
            <a:endParaRPr b="0" lang="en-GB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12420360" cy="7065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fix (1), we need to make changes to the LODSPeaKr templates that automatically generate those pages, to make them compliant with the model Josh developed. 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fix (2), we'll work with Alvaro (Graves) to create LODSPeaKr-based automation to generate catalog pages in an efficient way. 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) presents more of a challenge than (1) at this point, since the IOGDS implementation of dataset details pages is mostly correct at this point.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ill need Dan B. to assist with getting them found…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we need:</a:t>
            </a:r>
            <a:endParaRPr b="0" lang="en-GB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12420360" cy="7065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ingness to adopt the dataset schema extension – we need lots of datasets to start showing up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(TWC) will be pushing out some tools, more demos and how-tos, very soon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nna play? http://wiki.esipfed.org/index.php/DatasetSchema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4824360" y="4140360"/>
            <a:ext cx="5600520" cy="46382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85000" cy="1912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verse Approaches to Open Gov't Data</a:t>
            </a:r>
            <a:endParaRPr b="0" lang="en-GB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0483920" y="8331120"/>
            <a:ext cx="30477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C9509C-B192-4B1A-879D-57BD3207FE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8680" y="1920960"/>
            <a:ext cx="6067080" cy="54860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31920" indent="-33192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vernment data initiatives have taken many forms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vData portals are widely varied in how they help users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over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evant datasets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6492960" y="1841400"/>
            <a:ext cx="1463400" cy="1358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10420200" y="1892160"/>
            <a:ext cx="3752640" cy="1399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4"/>
          <a:stretch/>
        </p:blipFill>
        <p:spPr>
          <a:xfrm>
            <a:off x="11337840" y="7778880"/>
            <a:ext cx="2828520" cy="999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"/>
          <p:cNvPicPr/>
          <p:nvPr/>
        </p:nvPicPr>
        <p:blipFill>
          <a:blip r:embed="rId5"/>
          <a:stretch/>
        </p:blipFill>
        <p:spPr>
          <a:xfrm>
            <a:off x="9963000" y="3749760"/>
            <a:ext cx="1923840" cy="1104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"/>
          <p:cNvPicPr/>
          <p:nvPr/>
        </p:nvPicPr>
        <p:blipFill>
          <a:blip r:embed="rId6"/>
          <a:stretch/>
        </p:blipFill>
        <p:spPr>
          <a:xfrm>
            <a:off x="12174480" y="5313240"/>
            <a:ext cx="2180880" cy="904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7"/>
          <a:stretch/>
        </p:blipFill>
        <p:spPr>
          <a:xfrm>
            <a:off x="12474720" y="3565440"/>
            <a:ext cx="1790280" cy="856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"/>
          <p:cNvPicPr/>
          <p:nvPr/>
        </p:nvPicPr>
        <p:blipFill>
          <a:blip r:embed="rId8"/>
          <a:stretch/>
        </p:blipFill>
        <p:spPr>
          <a:xfrm>
            <a:off x="5916600" y="3657600"/>
            <a:ext cx="2037960" cy="637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"/>
          <p:cNvPicPr/>
          <p:nvPr/>
        </p:nvPicPr>
        <p:blipFill>
          <a:blip r:embed="rId9"/>
          <a:stretch/>
        </p:blipFill>
        <p:spPr>
          <a:xfrm>
            <a:off x="8047080" y="2617920"/>
            <a:ext cx="2314080" cy="856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"/>
          <p:cNvPicPr/>
          <p:nvPr/>
        </p:nvPicPr>
        <p:blipFill>
          <a:blip r:embed="rId10"/>
          <a:stretch/>
        </p:blipFill>
        <p:spPr>
          <a:xfrm>
            <a:off x="10423440" y="6683400"/>
            <a:ext cx="2761920" cy="7236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4"/>
          <p:cNvSpPr/>
          <p:nvPr/>
        </p:nvSpPr>
        <p:spPr>
          <a:xfrm>
            <a:off x="5851440" y="4603680"/>
            <a:ext cx="2377800" cy="45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cent of total catalo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from 192 catalo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85000" cy="1912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ted Discovery of Government Data</a:t>
            </a:r>
            <a:endParaRPr b="0" lang="en-GB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10483920" y="8331120"/>
            <a:ext cx="30477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ACA4B6-C796-4FC9-AA7B-C447BFDB61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182520" y="1787400"/>
            <a:ext cx="5219280" cy="424764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3389400" y="2925720"/>
            <a:ext cx="5114520" cy="420984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pic>
        <p:nvPicPr>
          <p:cNvPr id="162" name="Picture 5" descr=""/>
          <p:cNvPicPr/>
          <p:nvPr/>
        </p:nvPicPr>
        <p:blipFill>
          <a:blip r:embed="rId3"/>
          <a:stretch/>
        </p:blipFill>
        <p:spPr>
          <a:xfrm>
            <a:off x="457200" y="5165640"/>
            <a:ext cx="7589520" cy="452736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847000" y="2044800"/>
            <a:ext cx="5576400" cy="54860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 algn="r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keholders have se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need fo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ted discover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ross catalogs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peciall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rom withi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jor search engin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d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ng, Google, Yahoo!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ndex</a:t>
            </a:r>
            <a:endParaRPr b="0" lang="en-GB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69160" cy="189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35720" rIns="135720" tIns="68040" bIns="6804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overnment Data in the linked open data cloud</a:t>
            </a:r>
            <a:endParaRPr b="0" lang="en-GB" sz="5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Content Placeholder 3" descr="lod-datasets_2010-09-22_colored.png"/>
          <p:cNvPicPr/>
          <p:nvPr/>
        </p:nvPicPr>
        <p:blipFill>
          <a:blip r:embed="rId1"/>
          <a:srcRect l="-9177" t="0" r="-9177" b="0"/>
          <a:stretch/>
        </p:blipFill>
        <p:spPr>
          <a:xfrm>
            <a:off x="0" y="2133720"/>
            <a:ext cx="14188680" cy="65019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4393800" y="8432640"/>
            <a:ext cx="3035520" cy="501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5720" rIns="135720" tIns="68040" bIns="6804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ttp://linkeddata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6"/>
          <p:cNvGrpSpPr/>
          <p:nvPr/>
        </p:nvGrpSpPr>
        <p:grpSpPr>
          <a:xfrm>
            <a:off x="1219680" y="2438280"/>
            <a:ext cx="10606680" cy="5587560"/>
            <a:chOff x="1219680" y="2438280"/>
            <a:chExt cx="10606680" cy="5587560"/>
          </a:xfrm>
        </p:grpSpPr>
        <p:sp>
          <p:nvSpPr>
            <p:cNvPr id="168" name="Isosceles Triangle 4"/>
            <p:cNvSpPr/>
            <p:nvPr/>
          </p:nvSpPr>
          <p:spPr>
            <a:xfrm rot="5400000">
              <a:off x="559080" y="3098520"/>
              <a:ext cx="5587560" cy="4267080"/>
            </a:xfrm>
            <a:prstGeom prst="triangle">
              <a:avLst>
                <a:gd name="adj" fmla="val 50773"/>
              </a:avLst>
            </a:prstGeom>
            <a:noFill/>
            <a:ln w="381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69" name="TextBox 5"/>
            <p:cNvSpPr/>
            <p:nvPr/>
          </p:nvSpPr>
          <p:spPr>
            <a:xfrm>
              <a:off x="5242680" y="5283360"/>
              <a:ext cx="6583680" cy="118692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vernment Data is currently over ½ the cloud in size (~17B triples), 10s of thousands of links to other data (within and withou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85000" cy="1912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ked Data is Not Enough...</a:t>
            </a:r>
            <a:endParaRPr b="0" lang="en-GB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10483920" y="8331120"/>
            <a:ext cx="30477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E22BA-3AEC-4FBA-AF43-EA7919A78F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74680" y="2011320"/>
            <a:ext cx="6067080" cy="809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shing open government data as Linked Data i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enough</a:t>
            </a: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OGD to be useful, datasets must be published using metadata, markup standards and presentation that ai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overy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</a:t>
            </a: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4"/>
          <p:cNvSpPr/>
          <p:nvPr/>
        </p:nvSpPr>
        <p:spPr>
          <a:xfrm>
            <a:off x="6583320" y="2011320"/>
            <a:ext cx="7772040" cy="7132320"/>
          </a:xfrm>
          <a:custGeom>
            <a:avLst/>
            <a:gdLst>
              <a:gd name="textAreaLeft" fmla="*/ 1079280 w 7772040"/>
              <a:gd name="textAreaRight" fmla="*/ 6156720 w 7772040"/>
              <a:gd name="textAreaTop" fmla="*/ 1096200 h 7132320"/>
              <a:gd name="textAreaBottom" fmla="*/ 5722560 h 7132320"/>
            </a:gdLst>
            <a:ahLst/>
            <a:rect l="textAreaLeft" t="textAreaTop" r="textAreaRight" b="textAreaBottom"/>
            <a:pathLst>
              <a:path w="21600" h="21600">
                <a:moveTo>
                  <a:pt x="1930" y="7160"/>
                </a:moveTo>
                <a:cubicBezTo>
                  <a:pt x="1530" y="4490"/>
                  <a:pt x="3400" y="1970"/>
                  <a:pt x="5270" y="1970"/>
                </a:cubicBezTo>
                <a:cubicBezTo>
                  <a:pt x="5860" y="1950"/>
                  <a:pt x="6470" y="2210"/>
                  <a:pt x="6970" y="2600"/>
                </a:cubicBezTo>
                <a:cubicBezTo>
                  <a:pt x="7450" y="1390"/>
                  <a:pt x="8340" y="650"/>
                  <a:pt x="9340" y="650"/>
                </a:cubicBezTo>
                <a:cubicBezTo>
                  <a:pt x="10004" y="690"/>
                  <a:pt x="10710" y="1050"/>
                  <a:pt x="11210" y="1700"/>
                </a:cubicBezTo>
                <a:cubicBezTo>
                  <a:pt x="11570" y="630"/>
                  <a:pt x="12330" y="0"/>
                  <a:pt x="13150" y="0"/>
                </a:cubicBezTo>
                <a:cubicBezTo>
                  <a:pt x="13840" y="0"/>
                  <a:pt x="14470" y="460"/>
                  <a:pt x="14870" y="1160"/>
                </a:cubicBezTo>
                <a:cubicBezTo>
                  <a:pt x="15330" y="440"/>
                  <a:pt x="16020" y="0"/>
                  <a:pt x="16740" y="0"/>
                </a:cubicBezTo>
                <a:cubicBezTo>
                  <a:pt x="17910" y="0"/>
                  <a:pt x="18900" y="1130"/>
                  <a:pt x="19110" y="2710"/>
                </a:cubicBezTo>
                <a:cubicBezTo>
                  <a:pt x="20240" y="3150"/>
                  <a:pt x="21060" y="4580"/>
                  <a:pt x="21060" y="6220"/>
                </a:cubicBezTo>
                <a:cubicBezTo>
                  <a:pt x="21060" y="6720"/>
                  <a:pt x="21000" y="7200"/>
                  <a:pt x="20830" y="7660"/>
                </a:cubicBezTo>
                <a:cubicBezTo>
                  <a:pt x="21310" y="8460"/>
                  <a:pt x="21600" y="9450"/>
                  <a:pt x="21600" y="10460"/>
                </a:cubicBezTo>
                <a:cubicBezTo>
                  <a:pt x="21600" y="12750"/>
                  <a:pt x="20310" y="14680"/>
                  <a:pt x="18650" y="15010"/>
                </a:cubicBezTo>
                <a:cubicBezTo>
                  <a:pt x="18650" y="17200"/>
                  <a:pt x="17370" y="18920"/>
                  <a:pt x="15770" y="18920"/>
                </a:cubicBezTo>
                <a:cubicBezTo>
                  <a:pt x="15220" y="18920"/>
                  <a:pt x="14700" y="18710"/>
                  <a:pt x="14240" y="18310"/>
                </a:cubicBezTo>
                <a:cubicBezTo>
                  <a:pt x="13820" y="20240"/>
                  <a:pt x="12490" y="21600"/>
                  <a:pt x="11000" y="21600"/>
                </a:cubicBezTo>
                <a:cubicBezTo>
                  <a:pt x="9890" y="21600"/>
                  <a:pt x="8840" y="20790"/>
                  <a:pt x="8210" y="19510"/>
                </a:cubicBezTo>
                <a:cubicBezTo>
                  <a:pt x="7620" y="20000"/>
                  <a:pt x="7930" y="20290"/>
                  <a:pt x="6240" y="20290"/>
                </a:cubicBezTo>
                <a:cubicBezTo>
                  <a:pt x="4850" y="20290"/>
                  <a:pt x="3570" y="19280"/>
                  <a:pt x="2900" y="17640"/>
                </a:cubicBezTo>
                <a:cubicBezTo>
                  <a:pt x="1300" y="17600"/>
                  <a:pt x="480" y="16300"/>
                  <a:pt x="480" y="14660"/>
                </a:cubicBezTo>
                <a:cubicBezTo>
                  <a:pt x="480" y="13900"/>
                  <a:pt x="690" y="13210"/>
                  <a:pt x="1070" y="12640"/>
                </a:cubicBezTo>
                <a:cubicBezTo>
                  <a:pt x="380" y="12160"/>
                  <a:pt x="0" y="11210"/>
                  <a:pt x="0" y="10120"/>
                </a:cubicBezTo>
                <a:cubicBezTo>
                  <a:pt x="0" y="8590"/>
                  <a:pt x="840" y="7330"/>
                  <a:pt x="1930" y="7160"/>
                </a:cubicBezTo>
                <a:close/>
              </a:path>
              <a:path fill="none" w="21600" h="21600">
                <a:moveTo>
                  <a:pt x="1930" y="7160"/>
                </a:moveTo>
                <a:cubicBezTo>
                  <a:pt x="1950" y="7410"/>
                  <a:pt x="2040" y="7690"/>
                  <a:pt x="2090" y="7920"/>
                </a:cubicBezTo>
              </a:path>
              <a:path fill="none" w="21600" h="21600">
                <a:moveTo>
                  <a:pt x="6970" y="2600"/>
                </a:moveTo>
                <a:cubicBezTo>
                  <a:pt x="7200" y="2790"/>
                  <a:pt x="7480" y="3050"/>
                  <a:pt x="7670" y="3310"/>
                </a:cubicBezTo>
              </a:path>
              <a:path fill="none" w="21600" h="21600">
                <a:moveTo>
                  <a:pt x="11210" y="1700"/>
                </a:moveTo>
                <a:cubicBezTo>
                  <a:pt x="11130" y="1910"/>
                  <a:pt x="11080" y="2160"/>
                  <a:pt x="11030" y="2400"/>
                </a:cubicBezTo>
              </a:path>
              <a:path fill="none" w="21600" h="21600">
                <a:moveTo>
                  <a:pt x="14870" y="1160"/>
                </a:moveTo>
                <a:cubicBezTo>
                  <a:pt x="14720" y="1400"/>
                  <a:pt x="14640" y="1720"/>
                  <a:pt x="14540" y="2010"/>
                </a:cubicBezTo>
              </a:path>
              <a:path fill="none" w="21600" h="21600">
                <a:moveTo>
                  <a:pt x="19110" y="2710"/>
                </a:moveTo>
                <a:cubicBezTo>
                  <a:pt x="19130" y="2890"/>
                  <a:pt x="19230" y="3290"/>
                  <a:pt x="19190" y="3380"/>
                </a:cubicBezTo>
              </a:path>
              <a:path fill="none" w="21600" h="21600">
                <a:moveTo>
                  <a:pt x="20830" y="7660"/>
                </a:moveTo>
                <a:cubicBezTo>
                  <a:pt x="20660" y="8170"/>
                  <a:pt x="20430" y="8620"/>
                  <a:pt x="20110" y="8990"/>
                </a:cubicBezTo>
              </a:path>
              <a:path fill="none" w="21600" h="21600">
                <a:moveTo>
                  <a:pt x="18660" y="15010"/>
                </a:moveTo>
                <a:cubicBezTo>
                  <a:pt x="18740" y="14200"/>
                  <a:pt x="18280" y="12200"/>
                  <a:pt x="17000" y="11450"/>
                </a:cubicBezTo>
              </a:path>
              <a:path fill="none" w="21600" h="21600">
                <a:moveTo>
                  <a:pt x="14240" y="18310"/>
                </a:moveTo>
                <a:cubicBezTo>
                  <a:pt x="14320" y="17980"/>
                  <a:pt x="14350" y="17680"/>
                  <a:pt x="14370" y="17360"/>
                </a:cubicBezTo>
              </a:path>
              <a:path fill="none" w="21600" h="21600">
                <a:moveTo>
                  <a:pt x="8220" y="19510"/>
                </a:moveTo>
                <a:cubicBezTo>
                  <a:pt x="8060" y="19250"/>
                  <a:pt x="7960" y="18950"/>
                  <a:pt x="7860" y="18640"/>
                </a:cubicBezTo>
              </a:path>
              <a:path fill="none" w="21600" h="21600">
                <a:moveTo>
                  <a:pt x="2900" y="17640"/>
                </a:moveTo>
                <a:cubicBezTo>
                  <a:pt x="3090" y="17600"/>
                  <a:pt x="3280" y="17540"/>
                  <a:pt x="3460" y="17450"/>
                </a:cubicBezTo>
              </a:path>
              <a:path fill="none" w="21600" h="21600">
                <a:moveTo>
                  <a:pt x="1070" y="12640"/>
                </a:moveTo>
                <a:cubicBezTo>
                  <a:pt x="1400" y="12900"/>
                  <a:pt x="1780" y="13130"/>
                  <a:pt x="2330" y="13040"/>
                </a:cubicBezTo>
              </a:path>
            </a:pathLst>
          </a:cu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12526920" y="3475080"/>
            <a:ext cx="821880" cy="1096560"/>
          </a:xfrm>
          <a:prstGeom prst="can">
            <a:avLst>
              <a:gd name="adj" fmla="val 33349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8229600" y="3200400"/>
            <a:ext cx="821880" cy="1096560"/>
          </a:xfrm>
          <a:prstGeom prst="can">
            <a:avLst>
              <a:gd name="adj" fmla="val 33349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7864560" y="7132680"/>
            <a:ext cx="821880" cy="1096560"/>
          </a:xfrm>
          <a:prstGeom prst="can">
            <a:avLst>
              <a:gd name="adj" fmla="val 33349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177" name="AutoShape 8"/>
          <p:cNvSpPr/>
          <p:nvPr/>
        </p:nvSpPr>
        <p:spPr>
          <a:xfrm>
            <a:off x="12526920" y="3475080"/>
            <a:ext cx="821880" cy="1096560"/>
          </a:xfrm>
          <a:prstGeom prst="can">
            <a:avLst>
              <a:gd name="adj" fmla="val 33349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178" name="AutoShape 9"/>
          <p:cNvSpPr/>
          <p:nvPr/>
        </p:nvSpPr>
        <p:spPr>
          <a:xfrm>
            <a:off x="12069720" y="676584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179" name="AutoShape 10"/>
          <p:cNvSpPr/>
          <p:nvPr/>
        </p:nvSpPr>
        <p:spPr>
          <a:xfrm>
            <a:off x="12801600" y="521172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180" name="AutoShape 11"/>
          <p:cNvSpPr/>
          <p:nvPr/>
        </p:nvSpPr>
        <p:spPr>
          <a:xfrm>
            <a:off x="7497720" y="521172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181" name="AutoShape 12"/>
          <p:cNvSpPr/>
          <p:nvPr/>
        </p:nvSpPr>
        <p:spPr>
          <a:xfrm>
            <a:off x="10788480" y="274320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182" name="AutoShape 13"/>
          <p:cNvSpPr/>
          <p:nvPr/>
        </p:nvSpPr>
        <p:spPr>
          <a:xfrm>
            <a:off x="10058400" y="768204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183" name="AutoShape 14"/>
          <p:cNvSpPr/>
          <p:nvPr/>
        </p:nvSpPr>
        <p:spPr>
          <a:xfrm>
            <a:off x="8412120" y="594360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cxnSp>
        <p:nvCxnSpPr>
          <p:cNvPr id="184" name="AutoShape 15"/>
          <p:cNvCxnSpPr>
            <a:stCxn id="180" idx="1"/>
            <a:endCxn id="185" idx="1"/>
          </p:cNvCxnSpPr>
          <p:nvPr/>
        </p:nvCxnSpPr>
        <p:spPr>
          <a:xfrm flipV="1">
            <a:off x="8046720" y="5497200"/>
            <a:ext cx="1186200" cy="12600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86" name="AutoShape 16"/>
          <p:cNvCxnSpPr>
            <a:stCxn id="175" idx="1"/>
            <a:endCxn id="185" idx="0"/>
          </p:cNvCxnSpPr>
          <p:nvPr/>
        </p:nvCxnSpPr>
        <p:spPr>
          <a:xfrm>
            <a:off x="9051840" y="3749400"/>
            <a:ext cx="1371960" cy="7527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87" name="AutoShape 17"/>
          <p:cNvCxnSpPr>
            <a:stCxn id="181" idx="3"/>
            <a:endCxn id="185" idx="0"/>
          </p:cNvCxnSpPr>
          <p:nvPr/>
        </p:nvCxnSpPr>
        <p:spPr>
          <a:xfrm flipH="1">
            <a:off x="10421640" y="3565440"/>
            <a:ext cx="640080" cy="9352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88" name="AutoShape 18"/>
          <p:cNvCxnSpPr>
            <a:stCxn id="177" idx="2"/>
            <a:endCxn id="185" idx="3"/>
          </p:cNvCxnSpPr>
          <p:nvPr/>
        </p:nvCxnSpPr>
        <p:spPr>
          <a:xfrm flipH="1">
            <a:off x="11612520" y="4024080"/>
            <a:ext cx="914760" cy="14734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89" name="AutoShape 19"/>
          <p:cNvSpPr/>
          <p:nvPr/>
        </p:nvSpPr>
        <p:spPr>
          <a:xfrm>
            <a:off x="10148760" y="480060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cxnSp>
        <p:nvCxnSpPr>
          <p:cNvPr id="190" name="AutoShape 20"/>
          <p:cNvCxnSpPr>
            <a:stCxn id="183" idx="1"/>
            <a:endCxn id="185" idx="1"/>
          </p:cNvCxnSpPr>
          <p:nvPr/>
        </p:nvCxnSpPr>
        <p:spPr>
          <a:xfrm flipV="1">
            <a:off x="8961120" y="5497200"/>
            <a:ext cx="271800" cy="8578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1" name="AutoShape 21"/>
          <p:cNvCxnSpPr>
            <a:stCxn id="176" idx="1"/>
            <a:endCxn id="185" idx="2"/>
          </p:cNvCxnSpPr>
          <p:nvPr/>
        </p:nvCxnSpPr>
        <p:spPr>
          <a:xfrm flipV="1">
            <a:off x="8686800" y="6492600"/>
            <a:ext cx="1737000" cy="118800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2" name="AutoShape 22"/>
          <p:cNvCxnSpPr>
            <a:stCxn id="182" idx="1"/>
            <a:endCxn id="185" idx="2"/>
          </p:cNvCxnSpPr>
          <p:nvPr/>
        </p:nvCxnSpPr>
        <p:spPr>
          <a:xfrm flipV="1">
            <a:off x="10332720" y="6492600"/>
            <a:ext cx="91080" cy="118944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3" name="AutoShape 23"/>
          <p:cNvCxnSpPr>
            <a:stCxn id="194" idx="2"/>
            <a:endCxn id="185" idx="3"/>
          </p:cNvCxnSpPr>
          <p:nvPr/>
        </p:nvCxnSpPr>
        <p:spPr>
          <a:xfrm flipH="1" flipV="1">
            <a:off x="11612520" y="5497200"/>
            <a:ext cx="457560" cy="6753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5" name="AutoShape 24"/>
          <p:cNvCxnSpPr>
            <a:stCxn id="178" idx="2"/>
            <a:endCxn id="185" idx="2"/>
          </p:cNvCxnSpPr>
          <p:nvPr/>
        </p:nvCxnSpPr>
        <p:spPr>
          <a:xfrm flipH="1" flipV="1">
            <a:off x="10421640" y="6492600"/>
            <a:ext cx="1646640" cy="6847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6" name="AutoShape 25"/>
          <p:cNvCxnSpPr>
            <a:stCxn id="179" idx="2"/>
            <a:endCxn id="185" idx="3"/>
          </p:cNvCxnSpPr>
          <p:nvPr/>
        </p:nvCxnSpPr>
        <p:spPr>
          <a:xfrm flipH="1" flipV="1">
            <a:off x="11612520" y="5497200"/>
            <a:ext cx="1189440" cy="12600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pic>
        <p:nvPicPr>
          <p:cNvPr id="197" name="Picture 26" descr=""/>
          <p:cNvPicPr/>
          <p:nvPr/>
        </p:nvPicPr>
        <p:blipFill>
          <a:blip r:embed="rId1"/>
          <a:stretch/>
        </p:blipFill>
        <p:spPr>
          <a:xfrm>
            <a:off x="7278840" y="5457960"/>
            <a:ext cx="9000" cy="9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7" descr=""/>
          <p:cNvPicPr/>
          <p:nvPr/>
        </p:nvPicPr>
        <p:blipFill>
          <a:blip r:embed="rId2"/>
          <a:stretch/>
        </p:blipFill>
        <p:spPr>
          <a:xfrm>
            <a:off x="7278840" y="5457960"/>
            <a:ext cx="9000" cy="90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28"/>
          <p:cNvSpPr/>
          <p:nvPr/>
        </p:nvSpPr>
        <p:spPr>
          <a:xfrm>
            <a:off x="12069720" y="576108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pic>
        <p:nvPicPr>
          <p:cNvPr id="199" name="Picture 29" descr=""/>
          <p:cNvPicPr/>
          <p:nvPr/>
        </p:nvPicPr>
        <p:blipFill>
          <a:blip r:embed="rId3"/>
          <a:stretch/>
        </p:blipFill>
        <p:spPr>
          <a:xfrm>
            <a:off x="9232920" y="4500720"/>
            <a:ext cx="2379240" cy="199188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85000" cy="1912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ked Data is Not Enough...</a:t>
            </a:r>
            <a:endParaRPr b="0" lang="en-GB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0483920" y="8331120"/>
            <a:ext cx="30477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D23689-D914-4466-A356-E579E32036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74680" y="2011320"/>
            <a:ext cx="6067080" cy="8091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shing open government data as Linked Data i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enough</a:t>
            </a: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OGD to be useful, datasets must be published using metadata, markup standards and presentation that ai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overy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</a:t>
            </a: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4"/>
          <p:cNvSpPr/>
          <p:nvPr/>
        </p:nvSpPr>
        <p:spPr>
          <a:xfrm>
            <a:off x="6583320" y="2011320"/>
            <a:ext cx="7772040" cy="7132320"/>
          </a:xfrm>
          <a:custGeom>
            <a:avLst/>
            <a:gdLst>
              <a:gd name="textAreaLeft" fmla="*/ 1079280 w 7772040"/>
              <a:gd name="textAreaRight" fmla="*/ 6156720 w 7772040"/>
              <a:gd name="textAreaTop" fmla="*/ 1096200 h 7132320"/>
              <a:gd name="textAreaBottom" fmla="*/ 5722560 h 7132320"/>
            </a:gdLst>
            <a:ahLst/>
            <a:rect l="textAreaLeft" t="textAreaTop" r="textAreaRight" b="textAreaBottom"/>
            <a:pathLst>
              <a:path w="21600" h="21600">
                <a:moveTo>
                  <a:pt x="1930" y="7160"/>
                </a:moveTo>
                <a:cubicBezTo>
                  <a:pt x="1530" y="4490"/>
                  <a:pt x="3400" y="1970"/>
                  <a:pt x="5270" y="1970"/>
                </a:cubicBezTo>
                <a:cubicBezTo>
                  <a:pt x="5860" y="1950"/>
                  <a:pt x="6470" y="2210"/>
                  <a:pt x="6970" y="2600"/>
                </a:cubicBezTo>
                <a:cubicBezTo>
                  <a:pt x="7450" y="1390"/>
                  <a:pt x="8340" y="650"/>
                  <a:pt x="9340" y="650"/>
                </a:cubicBezTo>
                <a:cubicBezTo>
                  <a:pt x="10004" y="690"/>
                  <a:pt x="10710" y="1050"/>
                  <a:pt x="11210" y="1700"/>
                </a:cubicBezTo>
                <a:cubicBezTo>
                  <a:pt x="11570" y="630"/>
                  <a:pt x="12330" y="0"/>
                  <a:pt x="13150" y="0"/>
                </a:cubicBezTo>
                <a:cubicBezTo>
                  <a:pt x="13840" y="0"/>
                  <a:pt x="14470" y="460"/>
                  <a:pt x="14870" y="1160"/>
                </a:cubicBezTo>
                <a:cubicBezTo>
                  <a:pt x="15330" y="440"/>
                  <a:pt x="16020" y="0"/>
                  <a:pt x="16740" y="0"/>
                </a:cubicBezTo>
                <a:cubicBezTo>
                  <a:pt x="17910" y="0"/>
                  <a:pt x="18900" y="1130"/>
                  <a:pt x="19110" y="2710"/>
                </a:cubicBezTo>
                <a:cubicBezTo>
                  <a:pt x="20240" y="3150"/>
                  <a:pt x="21060" y="4580"/>
                  <a:pt x="21060" y="6220"/>
                </a:cubicBezTo>
                <a:cubicBezTo>
                  <a:pt x="21060" y="6720"/>
                  <a:pt x="21000" y="7200"/>
                  <a:pt x="20830" y="7660"/>
                </a:cubicBezTo>
                <a:cubicBezTo>
                  <a:pt x="21310" y="8460"/>
                  <a:pt x="21600" y="9450"/>
                  <a:pt x="21600" y="10460"/>
                </a:cubicBezTo>
                <a:cubicBezTo>
                  <a:pt x="21600" y="12750"/>
                  <a:pt x="20310" y="14680"/>
                  <a:pt x="18650" y="15010"/>
                </a:cubicBezTo>
                <a:cubicBezTo>
                  <a:pt x="18650" y="17200"/>
                  <a:pt x="17370" y="18920"/>
                  <a:pt x="15770" y="18920"/>
                </a:cubicBezTo>
                <a:cubicBezTo>
                  <a:pt x="15220" y="18920"/>
                  <a:pt x="14700" y="18710"/>
                  <a:pt x="14240" y="18310"/>
                </a:cubicBezTo>
                <a:cubicBezTo>
                  <a:pt x="13820" y="20240"/>
                  <a:pt x="12490" y="21600"/>
                  <a:pt x="11000" y="21600"/>
                </a:cubicBezTo>
                <a:cubicBezTo>
                  <a:pt x="9890" y="21600"/>
                  <a:pt x="8840" y="20790"/>
                  <a:pt x="8210" y="19510"/>
                </a:cubicBezTo>
                <a:cubicBezTo>
                  <a:pt x="7620" y="20000"/>
                  <a:pt x="7930" y="20290"/>
                  <a:pt x="6240" y="20290"/>
                </a:cubicBezTo>
                <a:cubicBezTo>
                  <a:pt x="4850" y="20290"/>
                  <a:pt x="3570" y="19280"/>
                  <a:pt x="2900" y="17640"/>
                </a:cubicBezTo>
                <a:cubicBezTo>
                  <a:pt x="1300" y="17600"/>
                  <a:pt x="480" y="16300"/>
                  <a:pt x="480" y="14660"/>
                </a:cubicBezTo>
                <a:cubicBezTo>
                  <a:pt x="480" y="13900"/>
                  <a:pt x="690" y="13210"/>
                  <a:pt x="1070" y="12640"/>
                </a:cubicBezTo>
                <a:cubicBezTo>
                  <a:pt x="380" y="12160"/>
                  <a:pt x="0" y="11210"/>
                  <a:pt x="0" y="10120"/>
                </a:cubicBezTo>
                <a:cubicBezTo>
                  <a:pt x="0" y="8590"/>
                  <a:pt x="840" y="7330"/>
                  <a:pt x="1930" y="7160"/>
                </a:cubicBezTo>
                <a:close/>
              </a:path>
              <a:path fill="none" w="21600" h="21600">
                <a:moveTo>
                  <a:pt x="1930" y="7160"/>
                </a:moveTo>
                <a:cubicBezTo>
                  <a:pt x="1950" y="7410"/>
                  <a:pt x="2040" y="7690"/>
                  <a:pt x="2090" y="7920"/>
                </a:cubicBezTo>
              </a:path>
              <a:path fill="none" w="21600" h="21600">
                <a:moveTo>
                  <a:pt x="6970" y="2600"/>
                </a:moveTo>
                <a:cubicBezTo>
                  <a:pt x="7200" y="2790"/>
                  <a:pt x="7480" y="3050"/>
                  <a:pt x="7670" y="3310"/>
                </a:cubicBezTo>
              </a:path>
              <a:path fill="none" w="21600" h="21600">
                <a:moveTo>
                  <a:pt x="11210" y="1700"/>
                </a:moveTo>
                <a:cubicBezTo>
                  <a:pt x="11130" y="1910"/>
                  <a:pt x="11080" y="2160"/>
                  <a:pt x="11030" y="2400"/>
                </a:cubicBezTo>
              </a:path>
              <a:path fill="none" w="21600" h="21600">
                <a:moveTo>
                  <a:pt x="14870" y="1160"/>
                </a:moveTo>
                <a:cubicBezTo>
                  <a:pt x="14720" y="1400"/>
                  <a:pt x="14640" y="1720"/>
                  <a:pt x="14540" y="2010"/>
                </a:cubicBezTo>
              </a:path>
              <a:path fill="none" w="21600" h="21600">
                <a:moveTo>
                  <a:pt x="19110" y="2710"/>
                </a:moveTo>
                <a:cubicBezTo>
                  <a:pt x="19130" y="2890"/>
                  <a:pt x="19230" y="3290"/>
                  <a:pt x="19190" y="3380"/>
                </a:cubicBezTo>
              </a:path>
              <a:path fill="none" w="21600" h="21600">
                <a:moveTo>
                  <a:pt x="20830" y="7660"/>
                </a:moveTo>
                <a:cubicBezTo>
                  <a:pt x="20660" y="8170"/>
                  <a:pt x="20430" y="8620"/>
                  <a:pt x="20110" y="8990"/>
                </a:cubicBezTo>
              </a:path>
              <a:path fill="none" w="21600" h="21600">
                <a:moveTo>
                  <a:pt x="18660" y="15010"/>
                </a:moveTo>
                <a:cubicBezTo>
                  <a:pt x="18740" y="14200"/>
                  <a:pt x="18280" y="12200"/>
                  <a:pt x="17000" y="11450"/>
                </a:cubicBezTo>
              </a:path>
              <a:path fill="none" w="21600" h="21600">
                <a:moveTo>
                  <a:pt x="14240" y="18310"/>
                </a:moveTo>
                <a:cubicBezTo>
                  <a:pt x="14320" y="17980"/>
                  <a:pt x="14350" y="17680"/>
                  <a:pt x="14370" y="17360"/>
                </a:cubicBezTo>
              </a:path>
              <a:path fill="none" w="21600" h="21600">
                <a:moveTo>
                  <a:pt x="8220" y="19510"/>
                </a:moveTo>
                <a:cubicBezTo>
                  <a:pt x="8060" y="19250"/>
                  <a:pt x="7960" y="18950"/>
                  <a:pt x="7860" y="18640"/>
                </a:cubicBezTo>
              </a:path>
              <a:path fill="none" w="21600" h="21600">
                <a:moveTo>
                  <a:pt x="2900" y="17640"/>
                </a:moveTo>
                <a:cubicBezTo>
                  <a:pt x="3090" y="17600"/>
                  <a:pt x="3280" y="17540"/>
                  <a:pt x="3460" y="17450"/>
                </a:cubicBezTo>
              </a:path>
              <a:path fill="none" w="21600" h="21600">
                <a:moveTo>
                  <a:pt x="1070" y="12640"/>
                </a:moveTo>
                <a:cubicBezTo>
                  <a:pt x="1400" y="12900"/>
                  <a:pt x="1780" y="13130"/>
                  <a:pt x="2330" y="13040"/>
                </a:cubicBezTo>
              </a:path>
            </a:pathLst>
          </a:cu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12526920" y="3475080"/>
            <a:ext cx="821880" cy="1096560"/>
          </a:xfrm>
          <a:prstGeom prst="can">
            <a:avLst>
              <a:gd name="adj" fmla="val 33349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8229600" y="3200400"/>
            <a:ext cx="821880" cy="1096560"/>
          </a:xfrm>
          <a:prstGeom prst="can">
            <a:avLst>
              <a:gd name="adj" fmla="val 33349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7864560" y="7132680"/>
            <a:ext cx="821880" cy="1096560"/>
          </a:xfrm>
          <a:prstGeom prst="can">
            <a:avLst>
              <a:gd name="adj" fmla="val 33349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12526920" y="3475080"/>
            <a:ext cx="821880" cy="1096560"/>
          </a:xfrm>
          <a:prstGeom prst="can">
            <a:avLst>
              <a:gd name="adj" fmla="val 33349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12069720" y="676584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12801600" y="521172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10" name="AutoShape 11"/>
          <p:cNvSpPr/>
          <p:nvPr/>
        </p:nvSpPr>
        <p:spPr>
          <a:xfrm>
            <a:off x="7497720" y="521172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11" name="AutoShape 12"/>
          <p:cNvSpPr/>
          <p:nvPr/>
        </p:nvSpPr>
        <p:spPr>
          <a:xfrm>
            <a:off x="10788480" y="274320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12" name="AutoShape 13"/>
          <p:cNvSpPr/>
          <p:nvPr/>
        </p:nvSpPr>
        <p:spPr>
          <a:xfrm>
            <a:off x="10058400" y="768204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213" name="AutoShape 14"/>
          <p:cNvSpPr/>
          <p:nvPr/>
        </p:nvSpPr>
        <p:spPr>
          <a:xfrm>
            <a:off x="8412120" y="594360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cxnSp>
        <p:nvCxnSpPr>
          <p:cNvPr id="214" name="AutoShape 15"/>
          <p:cNvCxnSpPr>
            <a:stCxn id="210" idx="1"/>
            <a:endCxn id="215" idx="1"/>
          </p:cNvCxnSpPr>
          <p:nvPr/>
        </p:nvCxnSpPr>
        <p:spPr>
          <a:xfrm flipV="1">
            <a:off x="8046720" y="5497200"/>
            <a:ext cx="1186200" cy="12600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16" name="AutoShape 16"/>
          <p:cNvCxnSpPr>
            <a:stCxn id="205" idx="1"/>
            <a:endCxn id="215" idx="0"/>
          </p:cNvCxnSpPr>
          <p:nvPr/>
        </p:nvCxnSpPr>
        <p:spPr>
          <a:xfrm>
            <a:off x="9051840" y="3749400"/>
            <a:ext cx="1371960" cy="7527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17" name="AutoShape 17"/>
          <p:cNvCxnSpPr>
            <a:stCxn id="211" idx="3"/>
            <a:endCxn id="215" idx="0"/>
          </p:cNvCxnSpPr>
          <p:nvPr/>
        </p:nvCxnSpPr>
        <p:spPr>
          <a:xfrm flipH="1">
            <a:off x="10421640" y="3565440"/>
            <a:ext cx="640080" cy="9352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18" name="AutoShape 18"/>
          <p:cNvCxnSpPr>
            <a:stCxn id="207" idx="2"/>
            <a:endCxn id="215" idx="3"/>
          </p:cNvCxnSpPr>
          <p:nvPr/>
        </p:nvCxnSpPr>
        <p:spPr>
          <a:xfrm flipH="1">
            <a:off x="11612520" y="4024080"/>
            <a:ext cx="914760" cy="14734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19" name="AutoShape 19"/>
          <p:cNvSpPr/>
          <p:nvPr/>
        </p:nvSpPr>
        <p:spPr>
          <a:xfrm>
            <a:off x="10148760" y="480060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cxnSp>
        <p:nvCxnSpPr>
          <p:cNvPr id="220" name="AutoShape 20"/>
          <p:cNvCxnSpPr>
            <a:stCxn id="213" idx="1"/>
            <a:endCxn id="215" idx="1"/>
          </p:cNvCxnSpPr>
          <p:nvPr/>
        </p:nvCxnSpPr>
        <p:spPr>
          <a:xfrm flipV="1">
            <a:off x="8961120" y="5497200"/>
            <a:ext cx="271800" cy="8578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21" name="AutoShape 21"/>
          <p:cNvCxnSpPr>
            <a:stCxn id="206" idx="1"/>
            <a:endCxn id="215" idx="2"/>
          </p:cNvCxnSpPr>
          <p:nvPr/>
        </p:nvCxnSpPr>
        <p:spPr>
          <a:xfrm flipV="1">
            <a:off x="8686800" y="6492600"/>
            <a:ext cx="1737000" cy="118800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22" name="AutoShape 22"/>
          <p:cNvCxnSpPr>
            <a:stCxn id="212" idx="1"/>
            <a:endCxn id="215" idx="2"/>
          </p:cNvCxnSpPr>
          <p:nvPr/>
        </p:nvCxnSpPr>
        <p:spPr>
          <a:xfrm flipV="1">
            <a:off x="10332720" y="6492600"/>
            <a:ext cx="91080" cy="118944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23" name="AutoShape 23"/>
          <p:cNvCxnSpPr>
            <a:stCxn id="224" idx="2"/>
            <a:endCxn id="215" idx="3"/>
          </p:cNvCxnSpPr>
          <p:nvPr/>
        </p:nvCxnSpPr>
        <p:spPr>
          <a:xfrm flipH="1" flipV="1">
            <a:off x="11612520" y="5497200"/>
            <a:ext cx="457560" cy="6753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25" name="AutoShape 24"/>
          <p:cNvCxnSpPr>
            <a:stCxn id="208" idx="2"/>
            <a:endCxn id="215" idx="2"/>
          </p:cNvCxnSpPr>
          <p:nvPr/>
        </p:nvCxnSpPr>
        <p:spPr>
          <a:xfrm flipH="1" flipV="1">
            <a:off x="10421640" y="6492600"/>
            <a:ext cx="1646640" cy="6847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26" name="AutoShape 25"/>
          <p:cNvCxnSpPr>
            <a:stCxn id="209" idx="2"/>
            <a:endCxn id="215" idx="3"/>
          </p:cNvCxnSpPr>
          <p:nvPr/>
        </p:nvCxnSpPr>
        <p:spPr>
          <a:xfrm flipH="1" flipV="1">
            <a:off x="11612520" y="5497200"/>
            <a:ext cx="1189440" cy="12600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pic>
        <p:nvPicPr>
          <p:cNvPr id="227" name="Picture 26" descr=""/>
          <p:cNvPicPr/>
          <p:nvPr/>
        </p:nvPicPr>
        <p:blipFill>
          <a:blip r:embed="rId1"/>
          <a:stretch/>
        </p:blipFill>
        <p:spPr>
          <a:xfrm>
            <a:off x="7278840" y="5457960"/>
            <a:ext cx="9000" cy="9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7" descr=""/>
          <p:cNvPicPr/>
          <p:nvPr/>
        </p:nvPicPr>
        <p:blipFill>
          <a:blip r:embed="rId2"/>
          <a:stretch/>
        </p:blipFill>
        <p:spPr>
          <a:xfrm>
            <a:off x="7278840" y="5457960"/>
            <a:ext cx="9000" cy="900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28"/>
          <p:cNvSpPr/>
          <p:nvPr/>
        </p:nvSpPr>
        <p:spPr>
          <a:xfrm>
            <a:off x="12069720" y="5761080"/>
            <a:ext cx="549000" cy="821880"/>
          </a:xfrm>
          <a:prstGeom prst="can">
            <a:avLst>
              <a:gd name="adj" fmla="val 37428"/>
            </a:avLst>
          </a:prstGeom>
          <a:solidFill>
            <a:srgbClr val="006b6b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pic>
        <p:nvPicPr>
          <p:cNvPr id="229" name="Picture 29" descr=""/>
          <p:cNvPicPr/>
          <p:nvPr/>
        </p:nvPicPr>
        <p:blipFill>
          <a:blip r:embed="rId3"/>
          <a:stretch/>
        </p:blipFill>
        <p:spPr>
          <a:xfrm>
            <a:off x="9232920" y="4500720"/>
            <a:ext cx="2379240" cy="1991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0" descr=""/>
          <p:cNvPicPr/>
          <p:nvPr/>
        </p:nvPicPr>
        <p:blipFill>
          <a:blip r:embed="rId4"/>
          <a:stretch/>
        </p:blipFill>
        <p:spPr>
          <a:xfrm>
            <a:off x="8869320" y="4343400"/>
            <a:ext cx="1571400" cy="68544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pic>
        <p:nvPicPr>
          <p:cNvPr id="231" name="Picture 31" descr=""/>
          <p:cNvPicPr/>
          <p:nvPr/>
        </p:nvPicPr>
        <p:blipFill>
          <a:blip r:embed="rId5"/>
          <a:stretch/>
        </p:blipFill>
        <p:spPr>
          <a:xfrm>
            <a:off x="9193320" y="5211720"/>
            <a:ext cx="2418840" cy="188568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pic>
        <p:nvPicPr>
          <p:cNvPr id="232" name="Picture 32" descr=""/>
          <p:cNvPicPr/>
          <p:nvPr/>
        </p:nvPicPr>
        <p:blipFill>
          <a:blip r:embed="rId6"/>
          <a:stretch/>
        </p:blipFill>
        <p:spPr>
          <a:xfrm>
            <a:off x="10611000" y="4410000"/>
            <a:ext cx="1275840" cy="61884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145040" y="-193680"/>
            <a:ext cx="10485000" cy="1912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set Metadata for Discovery and Use</a:t>
            </a:r>
            <a:endParaRPr b="0" lang="en-GB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10483920" y="8331120"/>
            <a:ext cx="30477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3E828E-9974-406D-9772-4D0B112B42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469280" y="2641680"/>
            <a:ext cx="6978240" cy="59907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 algn="r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ent work at 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C RPI demonstrates the value of applying emerging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ndards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or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formly describing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overnment datasets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catalogs</a:t>
            </a:r>
            <a:endParaRPr b="0" lang="en-GB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271440" y="2227320"/>
            <a:ext cx="6953040" cy="581940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pic>
        <p:nvPicPr>
          <p:cNvPr id="237" name="Picture 5" descr=""/>
          <p:cNvPicPr/>
          <p:nvPr/>
        </p:nvPicPr>
        <p:blipFill>
          <a:blip r:embed="rId2"/>
          <a:stretch/>
        </p:blipFill>
        <p:spPr>
          <a:xfrm>
            <a:off x="3108240" y="4664160"/>
            <a:ext cx="5100120" cy="462096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65440" y="-193680"/>
            <a:ext cx="11064600" cy="1912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tional Open Government Dataset Search</a:t>
            </a:r>
            <a:endParaRPr b="0" lang="en-GB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10483920" y="8331120"/>
            <a:ext cx="30477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4BD208-91DB-415D-A56D-EAD9E13D03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33360" y="2103480"/>
            <a:ext cx="6067080" cy="7300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C'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OG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pplication is an aggregated catalog of more than 1M datasets from over 192 dataset catalogs from governments at every level around the world</a:t>
            </a: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5943600" y="2011320"/>
            <a:ext cx="6953040" cy="581940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pic>
        <p:nvPicPr>
          <p:cNvPr id="242" name="Picture 5" descr=""/>
          <p:cNvPicPr/>
          <p:nvPr/>
        </p:nvPicPr>
        <p:blipFill>
          <a:blip r:embed="rId2"/>
          <a:stretch/>
        </p:blipFill>
        <p:spPr>
          <a:xfrm>
            <a:off x="9423360" y="4572000"/>
            <a:ext cx="5024160" cy="4462200"/>
          </a:xfrm>
          <a:prstGeom prst="rect">
            <a:avLst/>
          </a:prstGeom>
          <a:ln w="0">
            <a:noFill/>
          </a:ln>
          <a:effectLst>
            <a:outerShdw algn="ctr" blurRad="63360" dir="2700000" dist="102841" rotWithShape="0">
              <a:srgbClr val="808080"/>
            </a:outerShdw>
          </a:effectLst>
        </p:spPr>
      </p:pic>
      <p:sp>
        <p:nvSpPr>
          <p:cNvPr id="243" name="Text Box 6"/>
          <p:cNvSpPr/>
          <p:nvPr/>
        </p:nvSpPr>
        <p:spPr>
          <a:xfrm>
            <a:off x="365040" y="8321760"/>
            <a:ext cx="566856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: http://logd.tw.rpi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 Them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 Them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 Them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8</TotalTime>
  <Application>LibreOffice/7.4.7.2$Linux_X86_64 LibreOffice_project/40$Build-2</Application>
  <AppVersion>15.0000</AppVersion>
  <Words>1594</Words>
  <Paragraphs>1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9T15:58:26Z</dcterms:created>
  <dc:creator>Peter Darnell</dc:creator>
  <dc:description/>
  <dc:language>en-US</dc:language>
  <cp:lastModifiedBy>Erin Robinson</cp:lastModifiedBy>
  <cp:lastPrinted>1601-01-01T00:00:00Z</cp:lastPrinted>
  <dcterms:modified xsi:type="dcterms:W3CDTF">2013-07-09T15:59:04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5</vt:r8>
  </property>
  <property fmtid="{D5CDD505-2E9C-101B-9397-08002B2CF9AE}" pid="3" name="PresentationFormat">
    <vt:lpwstr>Custom</vt:lpwstr>
  </property>
  <property fmtid="{D5CDD505-2E9C-101B-9397-08002B2CF9AE}" pid="4" name="Slides">
    <vt:r8>27</vt:r8>
  </property>
</Properties>
</file>